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5C77D3-1942-4AA8-8D8F-1AAF4BCF7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8AE627-076D-4B4C-BF77-8A5ADCD5E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brief notes througho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azon.com/Boy-Who-Harnessed-Wind-Electricity/dp/0061730327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2008/03/bringing-an-ol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ffee.geek.nz/olpc-viewfinders-made-repra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makezine.com/archive/2009/10/olpc_ox_controls_reprap_prints_ox_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PC Corps newsfeed of student b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google.com/reader/shared/user%2F00765628753731681854%2Flabel%2FOLPCo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PC News on Uruguay’s completion of deplo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olpcnews.com/countries/uruguay/last_xo_laptop_olpc_urugua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PC NY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iki.laptop.org/go/OLPC_New_Y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-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laptop.org/2009/09/28/xo-1-5-create-collaborate-contribut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0.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iki.sugarlabs.org/go/0.86/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sets/7215762245669364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n-disk.com/product_info.php/products_id/8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tedxmidatlantic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397558753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8CD4-22D1-438B-A183-81FE634FE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EEBA-B74A-4756-BC0E-CE18B1705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1B76-ACCC-4501-960B-8093472DA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B7A4-821F-4685-BCA3-AE3B62C12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A085E-1360-4095-9827-F719A33E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49D5B-E0B0-4D66-9EB0-C5BA2B70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DF1CB-ACA9-4DE9-99BD-98EE53EE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A6A94-4845-440E-86DC-71ED8848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65973-87BA-4F3B-B43E-D75C1415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5E6B4-0AA9-4591-8C19-1966F6B6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BDCFA-0EEE-414C-8F96-1B4F2E81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54B4-4F51-41C8-8E34-ED3E30E4E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43360-7D13-478B-84CC-B5920346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85835-2098-43B7-891F-8605A898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29C00-8F24-47C9-80DA-41EACCD3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2366C-C3EF-4641-89DF-71506753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2FDFA-85B4-4410-98A7-DCE7F9B4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3789-3D5B-45BD-884C-F9ABAEA70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4A9C-CD1F-4235-9EC8-895C87DF2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A0CA-F8E5-4D97-BAF3-FF528DCE0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9AB0-4366-4368-83FE-D13D29B8C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083E-97E4-4737-86D7-A3F82E10C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31A0-D7FC-4D12-8E52-4FD8BA482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23D3-09D9-4CF4-B237-9613DA1AC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" y="1066680"/>
            <a:ext cx="9143640" cy="5435640"/>
            <a:chOff x="360" y="106668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28440" y="1066680"/>
              <a:ext cx="9115560" cy="5435640"/>
              <a:chOff x="28440" y="106668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17600" y="141588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3440" y="141588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8440" y="134136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0880" y="146196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0240" y="120636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08720" y="106668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1080" y="118116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2640" y="133812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3480" y="286848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2760" y="516240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7480" y="110808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1320" y="530856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5960" y="345420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" y="3284280"/>
              <a:ext cx="2193840" cy="2694240"/>
              <a:chOff x="360" y="328428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5760" y="580788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49680" y="58028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6840" y="57952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29040" y="580932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5840" y="5817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38320" y="581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1880" y="5812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3120" y="5785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4160" y="5790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6640" y="57981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6240" y="58060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6120" y="5721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68600" y="572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0720" y="5752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3200" y="5756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1560" y="56156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3680" y="5644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57960" y="5661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09720" y="5682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5400" y="54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2560" y="55155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79720" y="554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5440" y="557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1600" y="5338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3440" y="53683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87800" y="5399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6400" y="5428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26840" y="51573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598040" y="5195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68160" y="52308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4680" y="5270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3280" y="4970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3120" y="5006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0800" y="5047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5880" y="5081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56880" y="4763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1400" y="48034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28800" y="4844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07560" y="4889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18800" y="4559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3320" y="4600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1880" y="46396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4240" y="46814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1760" y="4350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3200" y="4392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3200" y="4430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1760" y="447156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3040" y="4157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2040" y="41907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6720" y="4228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1400" y="4271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6080" y="3972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3360" y="401292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5960" y="4049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1800" y="408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4560" y="3816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4720" y="38433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88840" y="3878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09360" y="3905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6320" y="3673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39800" y="370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3560" y="3730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2360" y="3755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8240" y="371304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7760" y="462564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2880" y="463860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37480" y="35690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3840" y="358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1280" y="3607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2960" y="3627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48120" y="3494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0960" y="3507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6240" y="3517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6200" y="353736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27800" y="34470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1720" y="34560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19600" y="3463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67480" y="3470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5960" y="34448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3480" y="3441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1360" y="3436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0320" y="3439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0880" y="347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08760" y="34675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0960" y="3461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0280" y="34531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4360" y="3545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3680" y="3529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19760" y="3513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0800" y="3496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5400" y="36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99000" y="36385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3280" y="361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6120" y="359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5440" y="35766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-3240" y="4982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07120" y="5165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1480" y="408600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08080" y="417024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3560" y="58590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67680" y="585900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69160" y="582408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4760" y="5751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59840" y="5641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7000" y="549864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5360" y="53305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31680" y="36223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2400" y="35064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6320" y="33969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4280" y="339048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0360" y="343116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6640" y="35010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58800" y="36082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2800" y="374760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17640" y="39114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898280" y="40971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29960" y="4295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2040" y="4511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3800" y="494172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49160" y="514512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6040" y="462276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000" y="396540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0840" y="385272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1360" y="520380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88960" y="406080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2360" y="395604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920" y="57355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20" y="370044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20" y="574524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5160" y="472608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57200" y="343188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7440" y="531648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78480" y="528048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20" y="361800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6560" y="448092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1"/>
          </p:nvPr>
        </p:nvSpPr>
        <p:spPr>
          <a:xfrm>
            <a:off x="8000640" y="6400440"/>
            <a:ext cx="841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CAC2-6537-43E6-B10F-AD5FFAAA1A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B09A-AAAD-41D1-9762-5EC9AC5E95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ee@aarp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blog.makezine.com/archive/2009/10/olpc_ox_controls_reprap_prints_ox_p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uriouslee/sets/72157622456693641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flickr.com/photos/curiouslee/sets/72157622456693641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on-disk.com/product_info.php/products_id/88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uriouslee/3975587531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mills, XO Reprap, Cambridge &amp; XtraOrdina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ke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Updated after the meeting with link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llaudet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rday, October 17,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2954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olpc_lc_dc_logo_one_line" descr=""/>
          <p:cNvPicPr/>
          <p:nvPr/>
        </p:nvPicPr>
        <p:blipFill>
          <a:blip r:embed="rId1"/>
          <a:srcRect l="4687" t="28007" r="9376" b="32004"/>
          <a:stretch/>
        </p:blipFill>
        <p:spPr>
          <a:xfrm>
            <a:off x="1905120" y="0"/>
            <a:ext cx="53337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 more 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mail Mike Lee at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Arial"/>
                <a:hlinkClick r:id="rId1"/>
              </a:rPr>
              <a:t>curiouslee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CF0E-ACE6-4DA8-B7C0-7B62E7EBF0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vorite recent read: The Boy Who Harnessed The W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 Olliver’s Reprap controlled by an XO-1 to print viewfi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from 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Lab S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isk XtraOrdinary SD card for the XO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53E3-304B-402C-BDAE-A73A05E252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iam Kamkwamba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oy Who Harnessed The Wi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william_kamkwamba_500x_windguy" descr=""/>
          <p:cNvPicPr/>
          <p:nvPr/>
        </p:nvPicPr>
        <p:blipFill>
          <a:blip r:embed="rId1"/>
          <a:stretch/>
        </p:blipFill>
        <p:spPr>
          <a:xfrm>
            <a:off x="2519280" y="228600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398" name="william-kamkwamba-book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724120" cy="4114800"/>
          </a:xfrm>
          <a:prstGeom prst="rect">
            <a:avLst/>
          </a:prstGeom>
          <a:ln w="0">
            <a:noFill/>
          </a:ln>
        </p:spPr>
      </p:pic>
      <p:pic>
        <p:nvPicPr>
          <p:cNvPr id="399" name="william-kamkwamba-earlier-windmill" descr=""/>
          <p:cNvPicPr/>
          <p:nvPr/>
        </p:nvPicPr>
        <p:blipFill>
          <a:blip r:embed="rId3"/>
          <a:stretch/>
        </p:blipFill>
        <p:spPr>
          <a:xfrm>
            <a:off x="6629400" y="1657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400" name="meal_kamb" descr=""/>
          <p:cNvPicPr/>
          <p:nvPr/>
        </p:nvPicPr>
        <p:blipFill>
          <a:blip r:embed="rId4"/>
          <a:stretch/>
        </p:blipFill>
        <p:spPr>
          <a:xfrm>
            <a:off x="6629400" y="38862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BDFF-17DD-4AE4-BC7D-8686A87369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’s Blo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william_kamkwamba_blog_olpc_xo" descr=""/>
          <p:cNvPicPr/>
          <p:nvPr/>
        </p:nvPicPr>
        <p:blipFill>
          <a:blip r:embed="rId1"/>
          <a:srcRect l="0" t="0" r="0" b="5555"/>
          <a:stretch/>
        </p:blipFill>
        <p:spPr>
          <a:xfrm>
            <a:off x="1424160" y="0"/>
            <a:ext cx="6295680" cy="64771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240" y="6477120"/>
            <a:ext cx="750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illiamkamkwamba.typepad.com/williamkamkwamba/2008/03/bringing-an-olp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5E42-FFEF-4901-AC55-FEDD424192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0" y="59432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blog.makezine.com/archive/2009/10/olpc_ox_controls_reprap_prints_ox_p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Vic Olliver’s Reprap-made Viewfinder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6" name="vic_olliver_xo_viewfinders" descr=""/>
          <p:cNvPicPr/>
          <p:nvPr/>
        </p:nvPicPr>
        <p:blipFill>
          <a:blip r:embed="rId1"/>
          <a:srcRect l="7200" t="3198" r="2801" b="5601"/>
          <a:stretch/>
        </p:blipFill>
        <p:spPr>
          <a:xfrm>
            <a:off x="152280" y="125748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407" name="reprap_olpc_viewfinder_vide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011480"/>
            <a:ext cx="3200400" cy="28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6AEF-53D6-4F5F-BE97-B9748ECCB8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s from Cambrid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PCorps Students at 1CC last we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uguay completes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for jumpstart event in NYC mid-Nov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push to production of XO-1.5 lap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ar 0.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ging out with Seth and A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t in Walter Bender’s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 meld with Caroline M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6428-E6C4-478C-A89A-09A4C266AE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Lab Sigh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bernoulli_wing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12" name="media_lab_extensio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960" y="5562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ck highlights of my visit last wee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flickr.com/photos/curiouslee/sets/72157622456693641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E4FC-B94D-4570-8F44-567F705F49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44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disk XtraOrdinary SD Card OS for the X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5" name="ondisk_XtraOrdinary_on_XO" descr=""/>
          <p:cNvPicPr/>
          <p:nvPr/>
        </p:nvPicPr>
        <p:blipFill>
          <a:blip r:embed="rId1"/>
          <a:stretch/>
        </p:blipFill>
        <p:spPr>
          <a:xfrm>
            <a:off x="0" y="915840"/>
            <a:ext cx="6781680" cy="5088240"/>
          </a:xfrm>
          <a:prstGeom prst="rect">
            <a:avLst/>
          </a:prstGeom>
          <a:ln w="0">
            <a:noFill/>
          </a:ln>
        </p:spPr>
      </p:pic>
      <p:pic>
        <p:nvPicPr>
          <p:cNvPr id="416" name="ondisk_sd_card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6016320"/>
            <a:ext cx="55627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on-disk.com/product_info.php/products_id/88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0831-A442-4C98-9D32-B25DEF04D6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pcom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s On After School, Fairfax VA, October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Dx Mid-Atlantic, Novemb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PC NYC Event, Tentatively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OLPC Learning Club meeting, ACC,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olpc_ny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2004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0042-0F47-44C4-BE31-1611790704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1:05:25Z</dcterms:created>
  <dc:creator>mik le</dc:creator>
  <dc:description/>
  <dc:language>en-US</dc:language>
  <cp:lastModifiedBy>Mike</cp:lastModifiedBy>
  <cp:lastPrinted>2005-01-24T07:03:34Z</cp:lastPrinted>
  <dcterms:modified xsi:type="dcterms:W3CDTF">2009-10-18T03:23:39Z</dcterms:modified>
  <cp:revision>174</cp:revision>
  <dc:subject/>
  <dc:title>Mapping the Current State of Web Sites</dc:title>
</cp:coreProperties>
</file>